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6FE-B8D9-488D-9C4D-9705B1FC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D6B-A429-45D4-8B4F-5CE700B1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4FB-794B-4772-B863-E0CEBD70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732-E5C2-4927-BF06-82B8EB68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D94-DA03-41B2-966B-F4203E70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197-8D94-4444-A729-56375D78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04F-2D5D-48D2-88E7-9BE95406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C74-EF22-45F5-94B6-822D0C4E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3CF-BC55-44B6-810C-66A1102B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F98-CA87-4484-94AD-DAD663F9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BB9-EBDB-4839-B5A2-4D0B85FB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9D9-5072-461B-992F-A56E685E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5D14-47B1-4130-919C-D8C8FBD42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e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The Ne…Pas Sandwhi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How to form negative sentenc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like in English, there are two required parts to change a sentence from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FFIRMA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NEGA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French, you follow the following formula that I will call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…pas sandwhich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read) +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eat)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p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ther piece of b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J’ai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Je n’ai pa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J’ai six stylos </a:t>
            </a:r>
            <a:r>
              <a:rPr b="1" lang="en-US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Je n’ai pas de stylo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J’ai deux posters.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Vous avez trois fenêtres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_________________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ls ont un livre.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________________________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ous avons deux portes.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________________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12:22Z</dcterms:created>
  <dc:creator>Robbie</dc:creator>
  <dc:description/>
  <dc:language>en-US</dc:language>
  <cp:lastModifiedBy>Robbie</cp:lastModifiedBy>
  <dcterms:modified xsi:type="dcterms:W3CDTF">2012-09-09T18:21:40Z</dcterms:modified>
  <cp:revision>1</cp:revision>
  <dc:subject/>
  <dc:title>Negation</dc:title>
</cp:coreProperties>
</file>